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60351"/>
        <c:axId val="5243459"/>
      </c:barChart>
      <c:catAx>
        <c:axId val="57760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3459"/>
        <c:crosses val="autoZero"/>
        <c:auto val="1"/>
        <c:lblAlgn val="ctr"/>
        <c:lblOffset val="100"/>
        <c:noMultiLvlLbl val="0"/>
      </c:catAx>
      <c:valAx>
        <c:axId val="5243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60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EC2-6421-4421-AFFE-61665A27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8B6-5ACF-4E39-B120-273C5351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909-D384-4FDE-8F36-3C0AF481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442-1123-40D6-920D-E1BF0D2A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C59-1616-4FCF-BD8A-22BC7459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837-72E8-49A1-8234-6A8F84CE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B63-A318-488D-9952-AF2544EB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F90-B307-4991-8391-DD03C362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C15-FA38-48D3-8980-887B955D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B82-9BFD-46D8-AC91-0571E09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E44-CFA7-4881-A112-5595C4D7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8D8-ED23-485F-802A-B8871428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7AA87-6BFC-4FC3-9AEA-211493B47F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